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A10-C11E-42EA-B378-1D223B6E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416-6B49-4E22-9E42-0463BF1E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2CEAC-B477-4893-9835-9EE064C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689AF-19DA-4178-B8DC-868481C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AEB1-D7B0-454C-8372-39C6AA68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4EFCB-1B4B-4306-A71D-BE82BAEA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B805B-927E-432E-9A05-60CF190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F022D-08B5-443F-9723-8A52D85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8B74B-F4DE-43E0-B271-5740EA2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99D03-BDA2-41EF-B476-F0659C88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233F6-4B37-4D6F-8733-65E6413C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3291A-AD40-4D04-A1CA-19889B85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112-7047-459B-BAFE-CED9AC75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4356D-4A54-413B-A3D0-7B0ED822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FF67A-9BDF-4723-BA74-CCC59E9B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C0C21-3946-427D-B968-390AA611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A9E1-D91C-4A2C-80C0-38D4C88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7FF86-CE5C-4C36-B65B-1CF7DDD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BD6D2-A537-40A1-B61D-CB5AB6D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937D7-6014-4B5A-A666-0706295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CCB2C-ABC2-472B-903D-5B1EF7F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B2E15-5CC0-47B7-872B-E26AF5D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E4517-C3D1-44C2-B489-C52DB77B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D05-F5BD-496D-8D78-76E85BD6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12A8A-11F5-47BD-AECE-A727193B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6792E-0E48-4982-8F07-DF6F66B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2AD74-70B4-4689-9BE3-67C6EFB4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2019E-5FA7-41EC-824A-40349FB7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665B1-801E-4AF4-97F0-3357D9BB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033D2-227B-4B5A-A03E-A59888B3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CEDED-7DDC-46E7-A108-89B68F00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7625-2560-4D95-9BDD-A47FCC5D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C500A-057F-47A9-B2B5-1BF6219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FE305-C497-4834-BB55-FEAE1BE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7B2F-34A3-42E6-97BD-68F4F7E9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38A2C-AD06-40F1-9304-8D50164B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BA479-C493-47AE-8982-F4BBC7C1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D9A99-5DD2-4174-8B08-F87C5BE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7C9BD-F269-4C5F-BBC9-71D9E84A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1EA17-4838-42B8-B3F1-3365684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EEE16-EF0A-4EFD-BD7F-D0D7DCEC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24A51-F7A0-41CE-BB4E-A44589D9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44F8B-A9F0-4C16-A53B-385FDF27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652DA-F980-4C50-B8A4-04E80E6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7CFD8-C4E5-4BCB-AF37-924DB47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25BA-8155-422E-A1F4-7456E13C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10244-DC04-4378-8BDE-6FAC00F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0A19E-4F7F-4AB5-AE56-18E0784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878F4-EE22-43BE-911C-BBD18125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F2D4E-FAA3-411C-8190-C07ED287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F1208-C803-486E-8127-53B96D2B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03368-73C5-4F49-9DAD-37562BD5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A130A-6C18-4F13-989A-5922B6E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43255-39CB-4C05-9C9F-767339D5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623CA-F0FD-4D0F-9F1E-5AC47D0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E0413-7FD5-4D58-8398-DE7F8D97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A56-71F1-4928-B8CD-1A5ADCD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7B216-5D83-4A87-B030-0A196954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F93EF-A67A-4282-9849-1B47A408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71AB9-B2FD-4D4C-8BBA-521C57C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3CF2F-D889-4F5E-A3B0-E0A9DF3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5C151-FE30-41E9-B7A4-18F50799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255A9-9FD5-4EBE-A25D-F3C85CC1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B5B85-6752-4783-B4B3-1880B28F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85387-3355-4B67-B44D-31971C77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5C698-540B-4115-ADE1-887D99B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BBF71-D368-4DFC-BE8D-1303783D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4E7-74FE-432E-920C-AAFECAC2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E8E2C-B10D-4019-A750-E76D28FB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20D04-E3A7-4BA5-942F-37DCCB96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30303-6439-4D7E-80AC-9DAF876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0933F-C2B2-445B-8372-EBE6E9E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13E15-5B09-49CE-B7A5-80D7A5C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FBD39-5DF3-4803-82B9-E29F6A6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2656D-26A0-4C8D-8886-471259CF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9E709-4A3A-4F99-B2D2-E778F582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96105-9B7F-4099-95D2-CED92B3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DBB1A-1C2B-415C-8D19-E512C7CA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576-8C63-49D2-ABFE-5ABEE436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BB0B5-ED10-4F17-B697-F4739B23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5576A-B0FC-4827-AF3D-948DFA8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947BD-22CF-4AAB-AF3E-928EEB45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B92B1-F7F8-4CDB-87F7-F0D03CBE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A11AE-F7B2-4BCC-9CE1-CC41F14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5FDBB-846C-4EC1-BA94-FCE633D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CDBF5-CEC5-4805-9F25-D59C79A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97261-2303-4DCF-BA68-88A2449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187C4-007F-46F3-B788-1218B85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AE5DB-BFDC-4A48-8FAD-4956E13D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0813-DEB9-4D84-BA18-5D0F8894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FAB98-A6C9-4717-BEAD-C492D0C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191B2-0F71-4192-A11F-836BF634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95A5C-A1B2-4479-A495-51FF87F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23277-0D9E-4482-B0FF-7CC77BF4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D4F34-AE60-47F7-9AB5-361130A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CA635-4219-49A3-93CB-D5801D13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36491-736C-4F14-A093-49D3FB09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D3F23-898E-4067-AD4B-790A8D1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D4922-4881-4C4C-B51B-0515F864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10B92-3495-4A21-90C2-15403EF5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F41E-6D34-4F5D-A37A-6959E9D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D5C93-28D7-49B8-91EC-914F843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560F6-3221-4A72-A3F9-5AA5B49E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0DFFA-F299-4F26-8287-364A7EC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9A878-50EC-4C1B-B2DF-E0262A40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1E946-1F6D-46A5-A743-1A0E8C28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13235-3C93-4C90-8293-5208173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CCD3C-1001-4062-96F2-66B53FB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8FFCC-F099-4F78-BC73-4E7D5ED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BCEFA-6243-4463-BA19-02B83F1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DDC49-DA4D-4332-B008-9AA7A27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B11-9C4E-48E2-BE0A-7F83C99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6DA-47A9-492A-A70E-D128D66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79733-BF02-4AE8-9F9F-C0FA2E0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E8281-A9BF-45E1-98F9-D94DF43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330F0-554E-45D3-826F-4043A131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6382C-AF01-4D43-A30E-C1F2934C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E4BCE-1A5C-4015-AB22-EB8802C0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ACE80A-4C83-49C0-954A-0E3A05B8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43B2F-E3B4-43CD-8069-9E85E68D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4DD10-5AB5-4AB7-8300-E444A20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A6400-CD28-446A-8561-15CF1BC4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3AC1C-3F41-4ECF-99DD-DC909D8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4ED4-BF56-4477-AD81-3DD8156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0CE4E-B856-498D-BCA3-5931A2F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5DADA-373A-427E-BB6A-BDA944A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C50FD-D63F-41B4-B4D7-71D086F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F0F5D-73CA-4284-B21C-B4ED32E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11A03-1A6F-4138-B411-92E24AB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E4634-97C1-4F8C-B96E-2DCF83EA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E70F5-B336-4C2F-A181-8F3356A5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1B057-5BB9-4D38-8BE3-5A687BC6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24CD7-0DF7-40FA-BA7B-4399EC6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3D9CA-3E2D-463F-A93A-DBB596F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204D-478A-4D11-A04A-3C91B14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B441D-0414-4EA3-BC48-262760C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10C5C-841C-470F-A101-F6FC466D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CB596-B06F-4CD0-B6D2-0050525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58684-B021-414E-A1FD-33A47EC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464BD-C7B8-486C-9619-C416E4B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0546C-723F-48FE-B175-1C3D599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EA7F2-DABB-4A40-9530-F0A4467F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A2D58-5615-40A8-A6B1-4A8A1051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05E38-A9D1-46B7-9B31-4EA0C3B1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5DDFF-E637-471F-B3CA-63318059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AD2E-F5A1-4E38-B5B8-3C425527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7B553-ABDF-4E05-8A08-623750F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BB1A5-FFA3-426B-A71C-35776123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DE831-82F6-4866-9EF9-F0E424B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8DB87-24DD-4990-A96C-42926682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77FC5-AC94-465F-8D1F-0C8E76F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01379-9402-4D76-B610-B5C0444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8F263-A6DA-41C7-B40C-8EB45D7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F2A5C-EFE9-461E-9360-4722AAE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4CC94-B3F0-4AD8-A0F1-6751C5A3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4A7F1-AD2A-44F2-999A-F8F2BE2A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419-FE34-4CEA-B9B2-8101DAB0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F13FC-1D0F-42B4-A917-BE5C9D5E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7B830-8A6F-4680-BD28-4A80CCD0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ACD2C-F3F7-47A7-9BB8-64351507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C2F41-AA1D-4E05-92C9-48E61742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9E3D8-9CCA-4D5F-A76B-78E556D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04D2B4-B0D7-4659-8C12-0EAC02D6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3DAA1-84FB-492B-877F-86A0C42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CE4AC-7998-4230-93F0-2CE5DC4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53B48C-8E0F-4EA7-89B4-B5BF368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026C8-9A13-4AB0-A41A-883172F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0F3C-356F-4B50-A5AB-3E6187F2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30A39-B2A0-4596-9DF9-BD76DD5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2EF2F-F772-4C6E-84A0-A55FCD96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A278A-F63D-4049-B386-C8A9357A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C766C-7505-4EEB-84FD-D14FF4BF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DBE9B-E2D9-4D4A-8468-D09DB3A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B883EB-E4FC-4D3A-822F-0DDFCA05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99E7E-D8F7-4B44-9C40-4C5D04E7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A0423-02E8-4C03-8D7C-FB2AF58C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48E3E-76DE-4EF2-BBBC-90171E3E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6CFE4-106D-4726-BF6A-67624A9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F890-B4FE-4DEB-9655-49B645C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13FF9-51AE-4EE0-BAC1-F5B9531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A57FC4-7187-4160-8728-ED573F2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26559-6D2C-45F9-9646-F20F3F44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495B97-C452-4F9A-889F-6B3A3357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78671-DC33-4915-B13E-CC6401D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4E435-59F8-4149-82F7-C70FCF69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116643-40E2-4BF6-AEAF-A1CD1A8A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A5445E-A6EB-4361-986B-ABB994E4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0ECE48-9E67-499C-B2F0-2E3889D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D6044-9FA1-45E3-B895-862C9B65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2FB7-18A3-49E9-8306-43D8050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3FCAF-73EE-434F-8981-C77C121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1AFF87-AC8A-4994-976E-1426BA8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F0DBA2-1208-45F7-8899-0FF87F8E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5424F8-942B-4854-ADFB-09B14E2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4F22E-4FE5-4E61-BA4E-C60958A0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EE8697-BC99-405E-9F69-E157811D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EE92D8-89E7-4CC2-A0DE-D18F1651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B9036-68CC-4931-9A6D-66C132E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991543-908B-4F7F-ACC6-1CEA618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A0B747-9290-47DC-A7D9-9CF71205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242F-A45E-491F-892C-17C24430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08779-B588-4D18-852A-ECF88A78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5AC8B-67E1-44ED-9D7D-C618F224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05FDD8-E311-495C-B21E-9206A18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AC99DE-A9F5-46E5-818E-A758901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1B56ED-989F-49C7-AB4F-E3BCA03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F5D8B-382E-4F3A-8050-830C2861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E31A1-BED1-42C3-B63D-55B22258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B425B-5FB3-4016-AEE2-1025E0A8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94568A-54F5-44A7-AA95-48DEA55E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4BFB12-70FA-444A-BEF5-C19C7A70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E6B1-667E-414E-8CA5-43DE20B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6792C-83AB-4754-B9F2-0584007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AFCCEF-4D41-42DA-9868-DB4AE39C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23C117-69D6-45DB-8DDF-CF75D1A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6486BB-3EF7-48D1-B662-8D87050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694852-DF80-4D24-813A-733DA663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6E7176-E81B-487A-B0DE-532B300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574CD7-BFFD-4446-8710-777ACA3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BE2190-5242-4C6D-85FE-C4205D9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E600B6-3951-4633-AD80-A04C9CE1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2CD950-6A98-4626-879F-22DE1525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AF9-C91E-4B06-AAEC-9E4A3A11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1A3F-0D91-475F-A1A6-D8FE9366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76D18B-D5D0-43C5-8AB0-955286D7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B718D0-84EE-41E6-8AC4-4E4EA73C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2A17ED-AF03-49CE-A944-6CE9B57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5CD569-768E-4605-B459-35B1878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1C969-CFA9-4BFC-A791-3C8AE1E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CEF3FB-FE77-44E5-8707-836E6551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D21617-2BFF-44D6-9878-8C409A2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F67057-06C0-49BB-BAB6-540CC5E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08C6B4-34BB-4869-B143-ED665B4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8E0284-DC28-4E83-81DC-5C44DB0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36BE-213C-4760-9CD5-19A1E56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806ABE-E381-43D0-B2F1-095F4CD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B91D51-882D-4A87-AE30-FD0041B7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679CBE-266F-4D9C-A616-D0B99609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60477-962F-4502-B465-E65997C2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91F161-C2B3-4B4C-86FA-3A3A213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7EBF68-C725-4414-A410-3A7B8E5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15091D-4617-4EE8-8379-CD72BACF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E9F98D-F97D-4562-9AF9-EFDF63C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91BB88-E1AB-48FA-B7DA-752FA375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33352B-A29C-40FE-9C5C-65EEF9E8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0D65-2C62-4C20-A119-C5965F3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6F9EE3-0874-4B3C-8CAB-E9ABC5C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2E2A21-07BE-48A3-A9C5-FB7C1B67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5621D8-C7B0-45F0-9254-5799086A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269E4A-82F6-4F95-964D-70B2B3C1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32A11B-DB82-4558-9724-49A6A27A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63FA95-8F00-4137-9F0D-B92FD3F3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27ED03-CC23-4D3E-BCC3-1A309D7F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C132A1-1879-4F49-9C2D-D0709C0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674A82-5F5F-4E56-A97D-C6629D92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9F19A2-50FD-4636-A50E-EF36748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8299-2FCA-45D5-A93B-3EC3F501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9DD68B-9BBB-4200-AF7D-348D6199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2B1F8D-791D-41C2-A813-14CA2EEA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A2406B-74E2-4D7C-840F-CBEBC5A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D4DE9E-C7A3-4F49-ABC9-294D5B2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4F8CAB-D8A3-4F87-BF54-D9FC6054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9E85BD-B910-494C-BA52-0F83C1F7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323108-0D21-4E71-BF1B-0AB948D0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148696-4FE2-4A20-8A83-0DCCF2B9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A20768-E66F-465A-830E-C7CBFD5C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D58AB0-714A-494E-8689-628B9D3F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4173-8EB4-4BFE-B57E-C872C84E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4B1E78-DB34-41E0-AD26-656F9A97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B46E7E-DCF0-43A3-9A0F-4A68768E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B43948-3297-42E7-846E-A99CD62E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B4DC88-A32B-4E28-9709-62C478D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684BA9-0731-4F7C-A3B2-0049AF5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1366FF-20D5-41C0-A2DB-AF5207D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491294-4816-41EB-B1F1-434872F7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E6553C-41DA-435D-84AB-3220A249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A25452-0E74-4639-9B8D-76DBEC8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7FA76B-7A1B-486C-8D8B-9D9965E2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AC93-6369-4CD4-AC22-AA4D59B3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6DF0F1-73C5-4D2A-BB74-661541F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05DCC2-DA71-4200-9BF3-B1F42D00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B4584A-9D4A-4F6D-A0FB-7EF1D77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FB7F7F-75CF-49CD-93C6-D8CE6DD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A401FF-A728-4C6C-9C1E-7A184E6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A321BD-F7B2-40AD-AAA0-1B16175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F350A8-FD6C-4C2E-8235-32190494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0F56AA-075A-400C-9314-E54439B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C56204-2465-4D3F-B931-755B240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D91D96-B6CF-427E-8B04-25A7ACBE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311F-2B89-499F-AB3E-7122CB19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24E142-69CF-428A-9FBA-85C35259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B66B18-B2E9-4B82-8BE7-F30AB1BC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97E5E3-EF6B-49FC-AED7-803F2D52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6F53AB-42AF-497E-9877-80382E7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5BA4F1-C4BC-494E-B208-5B999E4D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25B58F-C3B2-4E24-894D-551CE4C0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C59AA1-6464-452F-AA41-207BDD9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A11E32-D134-48B3-8553-5F755A0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B99DDE-1877-431A-814A-786CD48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AE0FC3-16C5-4521-AD0F-D8F4B88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B9C2-44EE-48CF-A208-0EE59F50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025E41-6022-43EA-876C-6C48016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C81DA-696D-48F5-AE23-D72E02D6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10CB3A-93C4-4A90-9C51-22EC2455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A63D62-A205-41E4-9DD5-14C2C687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E40BD9-873B-4911-81FF-8DC62693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8468E9-E99E-4059-A346-86A5E21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24EB59-3A1B-4D9E-8B9D-0204264B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6D09E8-05E6-40F6-97EB-720E0AA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126523-B28F-4241-8899-B15FEC56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65D79A-974D-42FD-BF35-546468B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2155-1123-4E5E-BA2B-D5E4A73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39F17D-928B-4B8B-B04F-052781D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ED150-8D63-461D-B9E6-77D4526C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861316-FD5C-4C8A-9AF2-FA50986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0A4E2F-118C-46DD-9E87-8DBBA799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896457-4E53-436A-867E-E4EEFE3F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E5F0-C6DD-4EC8-B5B9-DB843653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A5D-EE14-4A7B-AC95-05D00FE8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106F-AD57-4DAD-873B-AA072D3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84E7-D2BB-4AFC-96D2-630FD8B2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66AF-0161-4EC1-A879-34C4C20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29B7-965A-4F9C-9B5F-571E02A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628C-EA5A-4C65-B6A4-969FF3C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FBA4-9657-4531-9F6F-96A0603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0F50-2DB4-4010-98DB-71D9ED3C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B84A-C4D0-451C-B590-2075CC0E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65A2-7CFB-4855-9CEC-0F510D46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B5FF-4A18-4DF2-9F13-9A88DA38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103-DBA7-4425-97F3-4E71D2A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AB4C-AA1E-4F00-889B-2729FE5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5C3A-5EA0-42DD-9E02-DDE653BC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1A56-4E49-4419-A881-C424AF0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A6B63-7FBD-4CE8-B513-EED309B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6AB2-D0CE-4C50-A0BB-F354D00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6F1F-3F93-4D85-92D8-B77CB95E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6E4C-A894-47E8-8A68-E208DEC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784E-D2A9-4D26-B893-E5F1FDD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DBD6-BED3-4FB3-BC69-ACC4102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C9AD-0D0E-4390-B024-4EFC7795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9F3-B0FD-44F8-8E3F-304F7432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44D4-F783-4D62-91ED-BFAB5B67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A075-3F2A-4C8C-AF3B-ADC3C114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2E9F-0DC2-4CDC-AAE4-F94785EA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CACAD-DC72-400B-A4D7-7B6D2A70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9452-1B2B-4371-AB64-122A83A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4DF1-E57E-4FCA-82EE-CFB21F4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F97E2-B724-4725-BA0A-CEB282D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B6B8-3FBE-4DEC-8929-14D9EFE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BBED7-8C01-43AF-A5A7-6FB6F44C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48CE-263A-44C1-A223-E11EDC6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73D-AFB9-415D-8092-96D61DF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13E4-4C00-4831-A98F-3AA60B8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3EC6-E857-4DC2-869D-D5DC486B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5C8A7-0914-4322-924F-F1286837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B402E-3CEE-4D1A-B1F8-DC1734CF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86470-69E2-4937-9415-F9ED2CE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8F0DE-F26D-4718-BFB9-D73A576F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04C8A-C8F9-4556-BC6C-4CC2E243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C6BE2-47C9-42D2-84D1-F61D4C9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F320-0B81-49B4-B85A-AC03B78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0E565-7A72-48BD-92DC-02C1E8A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80E-8EBD-4839-934B-575AD1CA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DECBB-3E01-43E6-B155-57521FF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8C86A-F56A-4700-8007-6B49B84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96AE-70EB-4EB5-AFE5-58B27D2C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667D-ACE2-4D3F-94F4-485A1208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D89A-CD7D-44E7-BBDE-2A2CFFE1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1DA11-B718-4F20-8762-9B1BF9FD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8772A-9EFD-4364-AB4B-5DCA547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7DA2-94E9-4BD0-839B-02E605F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6406-CDA6-4C36-A550-4413F78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C718-CBE2-43D2-B804-179A1E18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147-76D4-495B-B62D-4DD2C53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D19A7-BF3E-4E84-85BA-825D2E7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4D29-A3B0-41BE-A71B-B2D9DF0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21B6-8535-40FF-832D-A4BC346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280B-7A84-4B5F-8122-D094CB45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6DEC2-DA4D-49A2-B146-B373AAB1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5992-646A-4C1A-9254-197CE040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B9769-801A-4A48-8870-C1D88BCA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0B089-A95F-419B-8E97-7DBB210E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CE417-5306-4632-9A04-ACED12E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D782-B0AF-4BF8-955B-304EC6FD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25.xml"/><Relationship Id="rId10" Type="http://schemas.openxmlformats.org/officeDocument/2006/relationships/slideLayout" Target="../slideLayouts/slideLayout326.xml"/><Relationship Id="rId11" Type="http://schemas.openxmlformats.org/officeDocument/2006/relationships/slideLayout" Target="../slideLayouts/slideLayout327.xml"/><Relationship Id="rId12" Type="http://schemas.openxmlformats.org/officeDocument/2006/relationships/slideLayout" Target="../slideLayouts/slideLayout328.xml"/><Relationship Id="rId13" Type="http://schemas.openxmlformats.org/officeDocument/2006/relationships/slideLayout" Target="../slideLayouts/slideLayout329.xml"/><Relationship Id="rId14" Type="http://schemas.openxmlformats.org/officeDocument/2006/relationships/slideLayout" Target="../slideLayouts/slideLayout330.xml"/><Relationship Id="rId15" Type="http://schemas.openxmlformats.org/officeDocument/2006/relationships/slideLayout" Target="../slideLayouts/slideLayout331.xml"/><Relationship Id="rId16" Type="http://schemas.openxmlformats.org/officeDocument/2006/relationships/slideLayout" Target="../slideLayouts/slideLayout332.xml"/><Relationship Id="rId17" Type="http://schemas.openxmlformats.org/officeDocument/2006/relationships/slideLayout" Target="../slideLayouts/slideLayout333.xml"/><Relationship Id="rId18" Type="http://schemas.openxmlformats.org/officeDocument/2006/relationships/slideLayout" Target="../slideLayouts/slideLayout334.xml"/><Relationship Id="rId19" Type="http://schemas.openxmlformats.org/officeDocument/2006/relationships/slideLayout" Target="../slideLayouts/slideLayout335.xml"/><Relationship Id="rId20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61.xml"/><Relationship Id="rId10" Type="http://schemas.openxmlformats.org/officeDocument/2006/relationships/slideLayout" Target="../slideLayouts/slideLayout362.xml"/><Relationship Id="rId11" Type="http://schemas.openxmlformats.org/officeDocument/2006/relationships/slideLayout" Target="../slideLayouts/slideLayout363.xml"/><Relationship Id="rId12" Type="http://schemas.openxmlformats.org/officeDocument/2006/relationships/slideLayout" Target="../slideLayouts/slideLayout364.xml"/><Relationship Id="rId13" Type="http://schemas.openxmlformats.org/officeDocument/2006/relationships/slideLayout" Target="../slideLayouts/slideLayout365.xml"/><Relationship Id="rId14" Type="http://schemas.openxmlformats.org/officeDocument/2006/relationships/slideLayout" Target="../slideLayouts/slideLayout366.xml"/><Relationship Id="rId15" Type="http://schemas.openxmlformats.org/officeDocument/2006/relationships/slideLayout" Target="../slideLayouts/slideLayout367.xml"/><Relationship Id="rId16" Type="http://schemas.openxmlformats.org/officeDocument/2006/relationships/slideLayout" Target="../slideLayouts/slideLayout368.xml"/><Relationship Id="rId17" Type="http://schemas.openxmlformats.org/officeDocument/2006/relationships/slideLayout" Target="../slideLayouts/slideLayout369.xml"/><Relationship Id="rId18" Type="http://schemas.openxmlformats.org/officeDocument/2006/relationships/slideLayout" Target="../slideLayouts/slideLayout370.xml"/><Relationship Id="rId19" Type="http://schemas.openxmlformats.org/officeDocument/2006/relationships/slideLayout" Target="../slideLayouts/slideLayout371.xml"/><Relationship Id="rId20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E91-2189-4EF8-9E71-CAE40731BDC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5707-0DE0-47C0-B499-C700031078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31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34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38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B366-942E-4E66-BD28-39A76D751F2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82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85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9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CAD0-3842-4ED3-A827-115062D48D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3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3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4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BDF9-3F4A-4F78-AFCF-F921674697E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68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68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9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9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0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BAB-5417-429F-A9F2-FA65DDF7181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4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5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EFD8-A2C8-4348-9766-24BBACE61F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96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99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03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36BA-96B0-40BF-BDD4-D94EE73BF80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4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85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5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DC5-0EFC-4D65-BBBB-7AB49415365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9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90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0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08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11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15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DF24-67CF-4FD5-BB01-3677AABCFE1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95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96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6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9D56-5B1F-4A22-BBD3-964BB15EF66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E01-50C0-49F9-B0A9-771294E7E7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1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1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1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807F-FA70-47F1-88CF-2C55564A9CC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6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6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9704-7AFD-49BB-9942-A524EA6DB17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1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1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1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6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6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6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5263-53EA-4305-BA76-21AEDEC2103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6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7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6C70-9423-49B8-9823-11CEEEB5BEE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1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1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2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DA7E-D3B8-4CE9-9F76-0ED260945B5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26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26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7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C6D-AD87-4139-84A5-7F580794E8A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31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31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2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7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7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C5A1-89D5-4F7C-8D6D-AD5005C90A5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6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70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74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dt" idx="7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 type="ftr" idx="8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 type="sldNum" idx="8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C179-1E88-4020-AEA8-2F6C01F3EC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1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2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2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28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431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35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8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8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8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597-F75C-48FF-9FF5-BF8CE0023B1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9"/>
    <p:sldLayoutId id="2147484001" r:id="rId10"/>
    <p:sldLayoutId id="2147484002" r:id="rId11"/>
    <p:sldLayoutId id="2147484003" r:id="rId12"/>
    <p:sldLayoutId id="2147484004" r:id="rId13"/>
    <p:sldLayoutId id="2147484005" r:id="rId14"/>
    <p:sldLayoutId id="2147484006" r:id="rId15"/>
    <p:sldLayoutId id="2147484007" r:id="rId16"/>
    <p:sldLayoutId id="2147484008" r:id="rId17"/>
    <p:sldLayoutId id="2147484009" r:id="rId18"/>
    <p:sldLayoutId id="2147484010" r:id="rId19"/>
    <p:sldLayoutId id="2147484011" r:id="rId20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47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482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86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8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8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8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1EF-BB42-4948-9604-E677247DCBA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715-2C79-45F5-8466-7676713117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30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33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6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37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8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9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F1CA-69E4-49B4-87D5-C97C3F021AA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8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8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91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94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8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9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9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9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66A-3723-472B-93F2-8AC26473CC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9"/>
    <p:sldLayoutId id="2147484040" r:id="rId10"/>
    <p:sldLayoutId id="2147484041" r:id="rId11"/>
    <p:sldLayoutId id="2147484042" r:id="rId12"/>
    <p:sldLayoutId id="2147484043" r:id="rId13"/>
    <p:sldLayoutId id="2147484044" r:id="rId14"/>
    <p:sldLayoutId id="2147484045" r:id="rId15"/>
    <p:sldLayoutId id="2147484046" r:id="rId16"/>
    <p:sldLayoutId id="2147484047" r:id="rId17"/>
    <p:sldLayoutId id="2147484048" r:id="rId18"/>
    <p:sldLayoutId id="2147484049" r:id="rId19"/>
    <p:sldLayoutId id="2147484050" r:id="rId20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2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45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49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dt" idx="9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ftr" idx="9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 type="sldNum" idx="9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3E22-C670-4C47-8F89-930C9CB4B9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896F-8368-4179-A324-B98992339D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752-97BC-4077-BABC-B6F5C80C4AD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247-24CC-4C95-B0A6-CEDC8C59992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0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10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4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493-8F81-46C0-88CF-C3F7C8844C8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5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6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68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71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4845-63DB-4A74-A7B9-8602C5461A9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1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22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D141-984B-4F19-B608-519896BBA4D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Picture 2" descr=""/>
          <p:cNvPicPr/>
          <p:nvPr/>
        </p:nvPicPr>
        <p:blipFill>
          <a:blip r:embed="rId1"/>
          <a:stretch/>
        </p:blipFill>
        <p:spPr>
          <a:xfrm>
            <a:off x="3154320" y="907920"/>
            <a:ext cx="2835360" cy="2036880"/>
          </a:xfrm>
          <a:prstGeom prst="rect">
            <a:avLst/>
          </a:prstGeom>
          <a:ln w="0">
            <a:noFill/>
          </a:ln>
        </p:spPr>
      </p:pic>
      <p:sp>
        <p:nvSpPr>
          <p:cNvPr id="1693" name="Прямоугольник 3"/>
          <p:cNvSpPr/>
          <p:nvPr/>
        </p:nvSpPr>
        <p:spPr>
          <a:xfrm>
            <a:off x="1042920" y="31417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Goudy Stout"/>
              </a:rPr>
              <a:t>Информация о Кыргызском центре аккреди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Goudy Stout"/>
              </a:rPr>
              <a:t>и его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оугольник 4"/>
          <p:cNvSpPr/>
          <p:nvPr/>
        </p:nvSpPr>
        <p:spPr>
          <a:xfrm>
            <a:off x="1403280" y="4668840"/>
            <a:ext cx="698508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Чапаев Ж.Ж.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    www.kca.gov.kg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27.05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Picture 3" descr=""/>
          <p:cNvPicPr/>
          <p:nvPr/>
        </p:nvPicPr>
        <p:blipFill>
          <a:blip r:embed="rId1"/>
          <a:stretch/>
        </p:blipFill>
        <p:spPr>
          <a:xfrm>
            <a:off x="7812000" y="32868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23" name="Нижний колонтитул 3"/>
          <p:cNvSpPr/>
          <p:nvPr/>
        </p:nvSpPr>
        <p:spPr>
          <a:xfrm>
            <a:off x="341964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684000" y="104940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правный член Международной организации п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аккредита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бораторий, подписант Соглашения 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взаимном призна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правный член Тихоокеанского сотрудниче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аккредит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ЦА представляет КР по вопросам аккредитации 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государственном совете по стандартизации,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рологии и сертифик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ЦА представляет КР по вопросам аккредитации 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региональной Ассоциации по Стандартиз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725" name="Picture 2" descr=""/>
          <p:cNvPicPr/>
          <p:nvPr/>
        </p:nvPicPr>
        <p:blipFill>
          <a:blip r:embed="rId2"/>
          <a:stretch/>
        </p:blipFill>
        <p:spPr>
          <a:xfrm>
            <a:off x="973080" y="2637000"/>
            <a:ext cx="1139760" cy="676080"/>
          </a:xfrm>
          <a:prstGeom prst="rect">
            <a:avLst/>
          </a:prstGeom>
          <a:ln w="0">
            <a:noFill/>
          </a:ln>
        </p:spPr>
      </p:pic>
      <p:pic>
        <p:nvPicPr>
          <p:cNvPr id="1726" name="Рисунок 12" descr="http://www.sarm.am/js/editor_innova/assets/mgs_logo.JPG"/>
          <p:cNvPicPr/>
          <p:nvPr/>
        </p:nvPicPr>
        <p:blipFill>
          <a:blip r:embed="rId3"/>
          <a:stretch/>
        </p:blipFill>
        <p:spPr>
          <a:xfrm>
            <a:off x="1000080" y="3770280"/>
            <a:ext cx="770040" cy="770040"/>
          </a:xfrm>
          <a:prstGeom prst="rect">
            <a:avLst/>
          </a:prstGeom>
          <a:ln w="0">
            <a:noFill/>
          </a:ln>
        </p:spPr>
      </p:pic>
      <p:pic>
        <p:nvPicPr>
          <p:cNvPr id="1727" name="Рисунок 13" descr="D:\Emma_рабочая\Международное сотрудничество\Турция\МАС\МАС.gif"/>
          <p:cNvPicPr/>
          <p:nvPr/>
        </p:nvPicPr>
        <p:blipFill>
          <a:blip r:embed="rId4"/>
          <a:stretch/>
        </p:blipFill>
        <p:spPr>
          <a:xfrm>
            <a:off x="987480" y="4962600"/>
            <a:ext cx="907920" cy="177300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3" descr=""/>
          <p:cNvPicPr/>
          <p:nvPr/>
        </p:nvPicPr>
        <p:blipFill>
          <a:blip r:embed="rId5"/>
          <a:stretch/>
        </p:blipFill>
        <p:spPr>
          <a:xfrm>
            <a:off x="996840" y="1268280"/>
            <a:ext cx="1009800" cy="914400"/>
          </a:xfrm>
          <a:prstGeom prst="rect">
            <a:avLst/>
          </a:prstGeom>
          <a:ln w="0">
            <a:noFill/>
          </a:ln>
        </p:spPr>
      </p:pic>
      <p:sp>
        <p:nvSpPr>
          <p:cNvPr id="1729" name="Прямоугольник 3"/>
          <p:cNvSpPr/>
          <p:nvPr/>
        </p:nvSpPr>
        <p:spPr>
          <a:xfrm>
            <a:off x="835920" y="422280"/>
            <a:ext cx="68832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ждународное 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0" name="Picture 3" descr=""/>
          <p:cNvPicPr/>
          <p:nvPr/>
        </p:nvPicPr>
        <p:blipFill>
          <a:blip r:embed="rId1"/>
          <a:stretch/>
        </p:blipFill>
        <p:spPr>
          <a:xfrm>
            <a:off x="7451640" y="9216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31" name="Прямоугольник 6"/>
          <p:cNvSpPr/>
          <p:nvPr/>
        </p:nvSpPr>
        <p:spPr>
          <a:xfrm>
            <a:off x="474840" y="503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МОРАНДУМ О СОТРУДНИЧЕСТВЕ </a:t>
            </a:r>
            <a:br>
              <a:rPr sz="1600"/>
            </a:b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НАЦИОНАЛЬНЫМИ ОРГАНАМИ ПО АККРЕДИТАЦИИ СТРАН С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2" name=""/>
          <p:cNvGraphicFramePr/>
          <p:nvPr/>
        </p:nvGraphicFramePr>
        <p:xfrm>
          <a:off x="1150920" y="1160640"/>
          <a:ext cx="7051680" cy="2773080"/>
        </p:xfrm>
        <a:graphic>
          <a:graphicData uri="http://schemas.openxmlformats.org/drawingml/2006/table">
            <a:tbl>
              <a:tblPr/>
              <a:tblGrid>
                <a:gridCol w="1762200"/>
                <a:gridCol w="1765080"/>
                <a:gridCol w="1762200"/>
                <a:gridCol w="17622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ублика 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публ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йск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ед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публика 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3" name="Picture 2" descr="Белорусский государственный центр аккредитации"/>
          <p:cNvPicPr/>
          <p:nvPr/>
        </p:nvPicPr>
        <p:blipFill>
          <a:blip r:embed="rId2"/>
          <a:stretch/>
        </p:blipFill>
        <p:spPr>
          <a:xfrm>
            <a:off x="3214800" y="1903320"/>
            <a:ext cx="985680" cy="91908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2" descr=""/>
          <p:cNvPicPr/>
          <p:nvPr/>
        </p:nvPicPr>
        <p:blipFill>
          <a:blip r:embed="rId3"/>
          <a:stretch/>
        </p:blipFill>
        <p:spPr>
          <a:xfrm>
            <a:off x="3157560" y="2822400"/>
            <a:ext cx="1457280" cy="1268640"/>
          </a:xfrm>
          <a:prstGeom prst="rect">
            <a:avLst/>
          </a:prstGeom>
          <a:ln w="0">
            <a:noFill/>
          </a:ln>
        </p:spPr>
      </p:pic>
      <p:pic>
        <p:nvPicPr>
          <p:cNvPr id="1735" name="Рисунок 10" descr=""/>
          <p:cNvPicPr/>
          <p:nvPr/>
        </p:nvPicPr>
        <p:blipFill>
          <a:blip r:embed="rId4"/>
          <a:srcRect l="11288" t="12048" r="2737" b="7087"/>
          <a:stretch/>
        </p:blipFill>
        <p:spPr>
          <a:xfrm>
            <a:off x="6983280" y="1347840"/>
            <a:ext cx="716040" cy="73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6" name="Picture 3" descr=""/>
          <p:cNvPicPr/>
          <p:nvPr/>
        </p:nvPicPr>
        <p:blipFill>
          <a:blip r:embed="rId5"/>
          <a:stretch/>
        </p:blipFill>
        <p:spPr>
          <a:xfrm>
            <a:off x="6718320" y="1967040"/>
            <a:ext cx="1305000" cy="1377720"/>
          </a:xfrm>
          <a:prstGeom prst="rect">
            <a:avLst/>
          </a:prstGeom>
          <a:ln w="0">
            <a:noFill/>
          </a:ln>
        </p:spPr>
      </p:pic>
      <p:pic>
        <p:nvPicPr>
          <p:cNvPr id="1737" name="Рисунок 12" descr=""/>
          <p:cNvPicPr/>
          <p:nvPr/>
        </p:nvPicPr>
        <p:blipFill>
          <a:blip r:embed="rId6"/>
          <a:stretch/>
        </p:blipFill>
        <p:spPr>
          <a:xfrm>
            <a:off x="6715080" y="3086280"/>
            <a:ext cx="1249560" cy="66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38" name="Прямая соединительная линия 13"/>
          <p:cNvSpPr/>
          <p:nvPr/>
        </p:nvSpPr>
        <p:spPr>
          <a:xfrm>
            <a:off x="606600" y="3933720"/>
            <a:ext cx="7930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Прямоугольник 14"/>
          <p:cNvSpPr/>
          <p:nvPr/>
        </p:nvSpPr>
        <p:spPr>
          <a:xfrm>
            <a:off x="533520" y="4067280"/>
            <a:ext cx="800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ВУХСТОРОННИЕ СОГЛАШЕНИЯ О СОТРУДНИЧЕСТВЕ С НАЦИОНАЛЬНЫМИ ОРГАНАМИ ПО АККРЕДИ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0" name="Рисунок 15" descr="L020tif"/>
          <p:cNvPicPr/>
          <p:nvPr/>
        </p:nvPicPr>
        <p:blipFill>
          <a:blip r:embed="rId7"/>
          <a:stretch/>
        </p:blipFill>
        <p:spPr>
          <a:xfrm>
            <a:off x="1517760" y="4645080"/>
            <a:ext cx="884160" cy="834840"/>
          </a:xfrm>
          <a:prstGeom prst="rect">
            <a:avLst/>
          </a:prstGeom>
          <a:ln w="0">
            <a:noFill/>
          </a:ln>
        </p:spPr>
      </p:pic>
      <p:pic>
        <p:nvPicPr>
          <p:cNvPr id="1741" name="Рисунок 16" descr=""/>
          <p:cNvPicPr/>
          <p:nvPr/>
        </p:nvPicPr>
        <p:blipFill>
          <a:blip r:embed="rId8"/>
          <a:srcRect l="11288" t="12048" r="2737" b="7087"/>
          <a:stretch/>
        </p:blipFill>
        <p:spPr>
          <a:xfrm>
            <a:off x="3635280" y="4692600"/>
            <a:ext cx="501840" cy="66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42" name="Picture 2" descr="Белорусский государственный центр аккредитации"/>
          <p:cNvPicPr/>
          <p:nvPr/>
        </p:nvPicPr>
        <p:blipFill>
          <a:blip r:embed="rId9"/>
          <a:stretch/>
        </p:blipFill>
        <p:spPr>
          <a:xfrm>
            <a:off x="5111640" y="4722840"/>
            <a:ext cx="644760" cy="600120"/>
          </a:xfrm>
          <a:prstGeom prst="rect">
            <a:avLst/>
          </a:prstGeom>
          <a:ln w="0">
            <a:noFill/>
          </a:ln>
        </p:spPr>
      </p:pic>
      <p:pic>
        <p:nvPicPr>
          <p:cNvPr id="1743" name="Рисунок 18" descr=""/>
          <p:cNvPicPr/>
          <p:nvPr/>
        </p:nvPicPr>
        <p:blipFill>
          <a:blip r:embed="rId10"/>
          <a:stretch/>
        </p:blipFill>
        <p:spPr>
          <a:xfrm>
            <a:off x="6880320" y="4756320"/>
            <a:ext cx="819000" cy="52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4" name="Прямоугольник 2"/>
          <p:cNvSpPr/>
          <p:nvPr/>
        </p:nvSpPr>
        <p:spPr>
          <a:xfrm>
            <a:off x="533520" y="538164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рецкое агентство по аккредитации, Центр аккредитации Молд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лорусский государственный центр аккредитации, Национальное агентство по аккредитации Укра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Нижний колонтитул 2"/>
          <p:cNvSpPr/>
          <p:nvPr/>
        </p:nvSpPr>
        <p:spPr>
          <a:xfrm>
            <a:off x="320508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6" name="Picture 3" descr=""/>
          <p:cNvPicPr/>
          <p:nvPr/>
        </p:nvPicPr>
        <p:blipFill>
          <a:blip r:embed="rId1"/>
          <a:stretch/>
        </p:blipFill>
        <p:spPr>
          <a:xfrm>
            <a:off x="7702560" y="162000"/>
            <a:ext cx="102384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7" name=""/>
          <p:cNvGraphicFramePr/>
          <p:nvPr/>
        </p:nvGraphicFramePr>
        <p:xfrm>
          <a:off x="395280" y="893880"/>
          <a:ext cx="8569440" cy="4716360"/>
        </p:xfrm>
        <a:graphic>
          <a:graphicData uri="http://schemas.openxmlformats.org/drawingml/2006/table">
            <a:tbl>
              <a:tblPr/>
              <a:tblGrid>
                <a:gridCol w="3502080"/>
                <a:gridCol w="1861920"/>
                <a:gridCol w="320544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ъекты аккредита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оличество аккредитованных ООС </a:t>
                      </a: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по сост. на 12.05.2015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означен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дународного стандар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по сертификации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С ГОСТ Р ИСО/МЭК 65-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тельные лаборато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ИСО/МЭК 17025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бровочные лабора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ИСО/МЭК 17025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Р ИСО 15189: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7020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ы программ МЛ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/IEC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704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a1c7"/>
                    </a:solidFill>
                  </a:tcPr>
                </a:tc>
              </a:tr>
            </a:tbl>
          </a:graphicData>
        </a:graphic>
      </p:graphicFrame>
      <p:sp>
        <p:nvSpPr>
          <p:cNvPr id="1748" name="Нижний колонтитул 1"/>
          <p:cNvSpPr/>
          <p:nvPr/>
        </p:nvSpPr>
        <p:spPr>
          <a:xfrm>
            <a:off x="3232080" y="6165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Прямоугольник 3"/>
          <p:cNvSpPr/>
          <p:nvPr/>
        </p:nvSpPr>
        <p:spPr>
          <a:xfrm>
            <a:off x="2930760" y="189000"/>
            <a:ext cx="34984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Аккредитованные О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Прямоугольник 1"/>
          <p:cNvSpPr/>
          <p:nvPr/>
        </p:nvSpPr>
        <p:spPr>
          <a:xfrm>
            <a:off x="395280" y="5516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ованная информация об аккредитованных ООС размещена и постоянно обновляется на сайте К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1" name="Picture 3" descr=""/>
          <p:cNvPicPr/>
          <p:nvPr/>
        </p:nvPicPr>
        <p:blipFill>
          <a:blip r:embed="rId1"/>
          <a:stretch/>
        </p:blipFill>
        <p:spPr>
          <a:xfrm>
            <a:off x="468360" y="258840"/>
            <a:ext cx="1023840" cy="733320"/>
          </a:xfrm>
          <a:prstGeom prst="rect">
            <a:avLst/>
          </a:prstGeom>
          <a:ln w="0">
            <a:noFill/>
          </a:ln>
        </p:spPr>
      </p:pic>
      <p:sp>
        <p:nvSpPr>
          <p:cNvPr id="1752" name="Прямоугольник 5"/>
          <p:cNvSpPr/>
          <p:nvPr/>
        </p:nvSpPr>
        <p:spPr>
          <a:xfrm>
            <a:off x="339840" y="917640"/>
            <a:ext cx="8535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ётом запросов клиентов в 2013-2014 годах  КЦА приступил к освоению новых направлений работ в области аккреди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х лабораторий (ГОСТ Р ИСО 151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контроля: диагностических центров по техническому осмотру наземных транспортных средств и в области неразрушающего контроля (ГОСТ ISO/IEC 17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а, проводящего аудит и сертификацию систем менеджмента пищевой безопасности (КМС ISO/TS 2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бровочных лабораторий с учётом требований ILAC (ГОСТ ИСО/МЭК 17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й судебно-экспертной деятельнос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ИСО/МЭК 17025, ГОСТ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/IEC 170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кже с учётом принятого решения, на согласовании находится проект постановления Правительства КР о передаче функций выдачи бланков сертификатов соответствия и их копий аккредитованным ОС, в т.ч. в рамках Таможенного сою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604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Прямоугольник 1"/>
          <p:cNvSpPr/>
          <p:nvPr/>
        </p:nvSpPr>
        <p:spPr>
          <a:xfrm>
            <a:off x="2806560" y="333360"/>
            <a:ext cx="36036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Calibri"/>
              </a:rPr>
              <a:t>Перспектива К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5" name="Picture 3" descr=""/>
          <p:cNvPicPr/>
          <p:nvPr/>
        </p:nvPicPr>
        <p:blipFill>
          <a:blip r:embed="rId1"/>
          <a:stretch/>
        </p:blipFill>
        <p:spPr>
          <a:xfrm>
            <a:off x="507960" y="276120"/>
            <a:ext cx="1023840" cy="731880"/>
          </a:xfrm>
          <a:prstGeom prst="rect">
            <a:avLst/>
          </a:prstGeom>
          <a:ln w="0">
            <a:noFill/>
          </a:ln>
        </p:spPr>
      </p:pic>
      <p:sp>
        <p:nvSpPr>
          <p:cNvPr id="1756" name="Прямоугольник 1"/>
          <p:cNvSpPr/>
          <p:nvPr/>
        </p:nvSpPr>
        <p:spPr>
          <a:xfrm>
            <a:off x="395280" y="880920"/>
            <a:ext cx="856944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роводимых работ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исоединению КР в Евразийский экономический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ЦА  определён уполномоченным органом по формированию и ведению национальной части Единого реестра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ов по сертификации и испытательных лабораторий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КЦА разработаны и утверждены документы, предусматривающие порядок проведения работ по включению аккредитованных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и ИЛ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циональную часть Единого реестра Т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аккредитованными ОС и ИЛ представляются необходимые документы, а специалистами КЦА проводится работа по их экспертизе для принятия решения о возможности включения в Единый реест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Прямоугольник 1"/>
          <p:cNvSpPr/>
          <p:nvPr/>
        </p:nvSpPr>
        <p:spPr>
          <a:xfrm>
            <a:off x="1701720" y="262080"/>
            <a:ext cx="546588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Calibri"/>
              </a:rPr>
              <a:t>Работа КЦА в рамках ЕА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ижний колонтитул 1"/>
          <p:cNvSpPr/>
          <p:nvPr/>
        </p:nvSpPr>
        <p:spPr>
          <a:xfrm>
            <a:off x="3232080" y="6165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Прямоугольник 4"/>
          <p:cNvSpPr/>
          <p:nvPr/>
        </p:nvSpPr>
        <p:spPr>
          <a:xfrm>
            <a:off x="376200" y="1628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 состоянию 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01.06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108000" y="2421000"/>
          <a:ext cx="8928000" cy="2732040"/>
        </p:xfrm>
        <a:graphic>
          <a:graphicData uri="http://schemas.openxmlformats.org/drawingml/2006/table">
            <a:tbl>
              <a:tblPr/>
              <a:tblGrid>
                <a:gridCol w="2087640"/>
                <a:gridCol w="1439640"/>
                <a:gridCol w="1152720"/>
                <a:gridCol w="1079280"/>
                <a:gridCol w="1008360"/>
                <a:gridCol w="1081080"/>
                <a:gridCol w="1079280"/>
              </a:tblGrid>
              <a:tr h="3157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О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абот/количество на соответствие ТР Т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ем заявок с анализом комплек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На стадии проведения эксперт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5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эксперт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Передано на доработ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На стадии принятия ре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Принято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кредитованные 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кредитованные 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2" name="Picture 1" descr=""/>
          <p:cNvPicPr/>
          <p:nvPr/>
        </p:nvPicPr>
        <p:blipFill>
          <a:blip r:embed="rId1"/>
          <a:stretch/>
        </p:blipFill>
        <p:spPr>
          <a:xfrm>
            <a:off x="7642080" y="24912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63" name="Прямоугольник 1"/>
          <p:cNvSpPr/>
          <p:nvPr/>
        </p:nvSpPr>
        <p:spPr>
          <a:xfrm>
            <a:off x="376200" y="4302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Работы по включению аккредит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ОС и ИЛ в Единый рее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395280" y="804960"/>
            <a:ext cx="831708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оритетны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ётом запросов клиентов КЦА приступил к освоению новых направлений работ в области аккредитаци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х лабораторий (ГОСТ Р ИСО 15189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контроля: диагностических центров по техническому осмотру наземных транспортных средств и в области неразрушающего контроля (ГОСТ ISO/IEC 1702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бровочных лабораторий с учётом требований ILAC (ГОСТ ИСО/МЭК 1702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а, проводящего аудит и сертификацию систем менеджмента пищевой безопасности  (КМС ISO/TS 22003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-экспертных организаций (ГОСТ ИСО/МЭК 17025, ГОСТ ISO/IEC 1702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6" name="Picture 2" descr=""/>
          <p:cNvPicPr/>
          <p:nvPr/>
        </p:nvPicPr>
        <p:blipFill>
          <a:blip r:embed="rId7"/>
          <a:stretch/>
        </p:blipFill>
        <p:spPr>
          <a:xfrm>
            <a:off x="7380360" y="439560"/>
            <a:ext cx="10238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Picture 4" descr=""/>
          <p:cNvPicPr/>
          <p:nvPr/>
        </p:nvPicPr>
        <p:blipFill>
          <a:blip r:embed="rId1"/>
          <a:stretch/>
        </p:blipFill>
        <p:spPr>
          <a:xfrm>
            <a:off x="3529080" y="1268280"/>
            <a:ext cx="2014560" cy="1440000"/>
          </a:xfrm>
          <a:prstGeom prst="rect">
            <a:avLst/>
          </a:prstGeom>
          <a:ln w="0">
            <a:noFill/>
          </a:ln>
        </p:spPr>
      </p:pic>
      <p:sp>
        <p:nvSpPr>
          <p:cNvPr id="1768" name="Прямоугольник 2"/>
          <p:cNvSpPr/>
          <p:nvPr/>
        </p:nvSpPr>
        <p:spPr>
          <a:xfrm>
            <a:off x="684360" y="2781360"/>
            <a:ext cx="81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ыргызский центр аккредитации при Министерстве экономики Кыргыз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11"/>
          <p:cNvSpPr/>
          <p:nvPr/>
        </p:nvSpPr>
        <p:spPr>
          <a:xfrm>
            <a:off x="703440" y="3801960"/>
            <a:ext cx="8132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товый адрес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20011, г. Бишкек, ул. Фрунзе, 4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рес веб-сай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www.kca.gov.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лектронная почта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kr@kca.gov.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лефон/Факс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96 (312) 43 48 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лефоны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96 (312) 43 49 18, 43 48 64, 901038, 90103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ректор КЦ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паев Жаныбек Жумабе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Нижний колонтитул 2"/>
          <p:cNvSpPr/>
          <p:nvPr/>
        </p:nvSpPr>
        <p:spPr>
          <a:xfrm>
            <a:off x="320364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1" name="Picture 3" descr=""/>
          <p:cNvPicPr/>
          <p:nvPr/>
        </p:nvPicPr>
        <p:blipFill>
          <a:blip r:embed="rId1"/>
          <a:stretch/>
        </p:blipFill>
        <p:spPr>
          <a:xfrm>
            <a:off x="7812000" y="404640"/>
            <a:ext cx="1024200" cy="7318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3" descr=""/>
          <p:cNvPicPr/>
          <p:nvPr/>
        </p:nvPicPr>
        <p:blipFill>
          <a:blip r:embed="rId2"/>
          <a:stretch/>
        </p:blipFill>
        <p:spPr>
          <a:xfrm>
            <a:off x="5411880" y="4052880"/>
            <a:ext cx="2914560" cy="1727280"/>
          </a:xfrm>
          <a:prstGeom prst="rect">
            <a:avLst/>
          </a:prstGeom>
          <a:ln w="0">
            <a:noFill/>
          </a:ln>
        </p:spPr>
      </p:pic>
      <p:sp>
        <p:nvSpPr>
          <p:cNvPr id="1773" name="Прямоугольник 3"/>
          <p:cNvSpPr/>
          <p:nvPr/>
        </p:nvSpPr>
        <p:spPr>
          <a:xfrm>
            <a:off x="1603800" y="2060640"/>
            <a:ext cx="56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Прямоугольник 4"/>
          <p:cNvSpPr/>
          <p:nvPr/>
        </p:nvSpPr>
        <p:spPr>
          <a:xfrm>
            <a:off x="1692360" y="2951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Kyr"/>
              </a:rPr>
              <a:t>К</a:t>
            </a:r>
            <a:r>
              <a:rPr b="1" lang="ky-KG" sz="2800" spc="-1" strike="noStrike">
                <a:solidFill>
                  <a:srgbClr val="000000"/>
                </a:solidFill>
                <a:latin typeface="ArialKyr"/>
              </a:rPr>
              <a:t>өңү</a:t>
            </a:r>
            <a:r>
              <a:rPr b="1" lang="ru-RU" sz="2800" spc="-1" strike="noStrike">
                <a:solidFill>
                  <a:srgbClr val="000000"/>
                </a:solidFill>
                <a:latin typeface="ArialKyr"/>
              </a:rPr>
              <a:t>л  бурганыңыздарга рахма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Нижний колонтитул 2"/>
          <p:cNvSpPr/>
          <p:nvPr/>
        </p:nvSpPr>
        <p:spPr>
          <a:xfrm>
            <a:off x="2979720" y="6021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6" descr="KCA logo2"/>
          <p:cNvPicPr/>
          <p:nvPr/>
        </p:nvPicPr>
        <p:blipFill>
          <a:blip r:embed="rId1"/>
          <a:stretch/>
        </p:blipFill>
        <p:spPr>
          <a:xfrm>
            <a:off x="7667640" y="260280"/>
            <a:ext cx="1025640" cy="733320"/>
          </a:xfrm>
          <a:prstGeom prst="rect">
            <a:avLst/>
          </a:prstGeom>
          <a:ln w="0">
            <a:noFill/>
          </a:ln>
        </p:spPr>
      </p:pic>
      <p:sp>
        <p:nvSpPr>
          <p:cNvPr id="1696" name="Прямоугольник 3"/>
          <p:cNvSpPr/>
          <p:nvPr/>
        </p:nvSpPr>
        <p:spPr>
          <a:xfrm>
            <a:off x="324000" y="1197000"/>
            <a:ext cx="8640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онодательная база в области аккредитации 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КР «Об основах технического регулирования в К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национальной системе аккредитации в К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Совете по аккредитации ООС - приняты постановлением Правительства КР от 16.11.2006 г. № 7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Кыргызском центре аккредитации -принято постановлением Правительства КР от 05.03.2010г.   №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Нижний колонтитул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Нижний колонтитул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оугольник 3"/>
          <p:cNvSpPr/>
          <p:nvPr/>
        </p:nvSpPr>
        <p:spPr>
          <a:xfrm>
            <a:off x="3215160" y="295200"/>
            <a:ext cx="2797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mbria"/>
              </a:rPr>
              <a:t>Структура К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Picture 4" descr=""/>
          <p:cNvPicPr/>
          <p:nvPr/>
        </p:nvPicPr>
        <p:blipFill>
          <a:blip r:embed="rId1"/>
          <a:stretch/>
        </p:blipFill>
        <p:spPr>
          <a:xfrm>
            <a:off x="7443720" y="29520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1701" name="Рисунок 6" descr="Безымянный.png"/>
          <p:cNvPicPr/>
          <p:nvPr/>
        </p:nvPicPr>
        <p:blipFill>
          <a:blip r:embed="rId2"/>
          <a:stretch/>
        </p:blipFill>
        <p:spPr>
          <a:xfrm>
            <a:off x="468360" y="1125360"/>
            <a:ext cx="85676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3" name="Picture 3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04" name="Rectangle 2"/>
          <p:cNvSpPr/>
          <p:nvPr/>
        </p:nvSpPr>
        <p:spPr>
          <a:xfrm>
            <a:off x="0" y="836640"/>
            <a:ext cx="8893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национальной системы аккредитации в соответствии с международной практикой и стандар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услуг по аккредитации в целях создания условий для подтверждения компетентности органов по оценке соответствия, повышения доверия к ним и создания условий для признания их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единой государственной политики в области аккредитации в соответствии с международными требова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в соответствии с международной практикой и стандартами официального признания технической компетентности органов по оценке соответств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  официального признания   компетентности   Координаторов/ Провайдеров программ  ПТ или МЛС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e67c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2"/>
          <p:cNvSpPr/>
          <p:nvPr/>
        </p:nvSpPr>
        <p:spPr>
          <a:xfrm>
            <a:off x="250920" y="907920"/>
            <a:ext cx="8713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3427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зданы и активно функционируют Совет по аккредитации (с момента создания КЦА проведено 17 заседаний), 3 ТК по аккредитации и 6 подкомитетов при ТК по аккредитации лабораторий,  Комиссии по принятию решений и по рассмотрению жалоб и апелля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-3427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стоянно актуализируются положения, процедуры по аккредитации с учётом введения документов международных организаций по аккредитации ILAC и IAF, внедрения новых направлени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-3427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здан и ведется с постоянной его актуализацией  сайт КЦА с представлением предусмотренной ИСО/МЭК 17011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7" name="Picture 2" descr=""/>
          <p:cNvPicPr/>
          <p:nvPr/>
        </p:nvPicPr>
        <p:blipFill>
          <a:blip r:embed="rId4"/>
          <a:stretch/>
        </p:blipFill>
        <p:spPr>
          <a:xfrm>
            <a:off x="7940520" y="20808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08" name="Прямоугольник 2"/>
          <p:cNvSpPr/>
          <p:nvPr/>
        </p:nvSpPr>
        <p:spPr>
          <a:xfrm>
            <a:off x="395280" y="333360"/>
            <a:ext cx="741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Calibri"/>
              </a:rPr>
              <a:t>В соответствии с поставленными целями и задач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0" name="Picture 2" descr=""/>
          <p:cNvPicPr/>
          <p:nvPr/>
        </p:nvPicPr>
        <p:blipFill>
          <a:blip r:embed="rId1"/>
          <a:stretch/>
        </p:blipFill>
        <p:spPr>
          <a:xfrm>
            <a:off x="7940520" y="20808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11" name="Прямоугольник 3"/>
          <p:cNvSpPr/>
          <p:nvPr/>
        </p:nvSpPr>
        <p:spPr>
          <a:xfrm>
            <a:off x="324000" y="1268280"/>
            <a:ext cx="84960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17748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водится  обучение привлекаемых к работам по аккредитации оценщиков и технических экспертов, ведение учета информации о их соответствии  установленным  требованиям, работы по их мониторин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17748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уществляется обратная связь с потребителями услуг по аккредитации: как в части деятельности КЦА в целом, так и специалистов, осуществляющих работы по аккреди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17748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эффективно функционирует система менеджмента К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17748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водятся  работы по участию лабораторий в программах ПТ и   МЛ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2"/>
          <p:cNvSpPr/>
          <p:nvPr/>
        </p:nvSpPr>
        <p:spPr>
          <a:xfrm>
            <a:off x="611280" y="1484280"/>
            <a:ext cx="822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4507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ействующей в соответствии с ИСО/МЭК 17011 системы менеджмента КЦА в марте  осуществлена оценка системы менеджмента со стороны руководства, утверждены планы и графики, направленные на совершенствование деятельности КЦ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ЦА постоянно актуализируются положения, процедуры по аккредитации с учётом введения документов международных организаций по аккредитации ILAC и IAF, внедрения нов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4" name="Picture 3" descr=""/>
          <p:cNvPicPr/>
          <p:nvPr/>
        </p:nvPicPr>
        <p:blipFill>
          <a:blip r:embed="rId3"/>
          <a:stretch/>
        </p:blipFill>
        <p:spPr>
          <a:xfrm>
            <a:off x="7451640" y="476280"/>
            <a:ext cx="1024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5" name="Picture 3" descr=""/>
          <p:cNvPicPr/>
          <p:nvPr/>
        </p:nvPicPr>
        <p:blipFill>
          <a:blip r:embed="rId1"/>
          <a:stretch/>
        </p:blipFill>
        <p:spPr>
          <a:xfrm>
            <a:off x="7812000" y="40464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1716" name="TextBox 6"/>
          <p:cNvSpPr/>
          <p:nvPr/>
        </p:nvSpPr>
        <p:spPr>
          <a:xfrm>
            <a:off x="642960" y="1628640"/>
            <a:ext cx="82249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ников К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леченных ведущих оценщиков, оценщиков и технических экспертов, в том числе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х оценщиков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из них 8 из К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щиков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х эксперт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Прямоугольник 4"/>
          <p:cNvSpPr/>
          <p:nvPr/>
        </p:nvSpPr>
        <p:spPr>
          <a:xfrm>
            <a:off x="3189240" y="7668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сонал К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7.05.2015,  Бишк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Прямоугольник 3"/>
          <p:cNvSpPr/>
          <p:nvPr/>
        </p:nvSpPr>
        <p:spPr>
          <a:xfrm>
            <a:off x="179280" y="154080"/>
            <a:ext cx="885672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Освоенные новые направления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15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ы необходимые работы по приведению своего соответствия с ИСО/МЭК 17011. КЦА прошёл 3 оценки со стороны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ILAC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получил подтверждение соответств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15000"/>
              </a:lnSpc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ярное обучение и мониторинг специалистов КЦА и привлекаемых к работам по аккредитации специалистов КР по новым требованиям в области аккредитации;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15000"/>
              </a:lnSpc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обратная связь с потребителями услуг по аккредит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15000"/>
              </a:lnSpc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жегодно организуется и проводится внутренний аудит системы менеджмента со стороны ведущих оценщиков признанных на международном уровне органов по аккредитации, анализ системы менеджмента со стороны руковод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270000" algn="just">
              <a:lnSpc>
                <a:spcPct val="115000"/>
              </a:lnSpc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тельно расширены рамки осуществляемых работ по проведению профтестировании, межлабораторных сличительных испытаний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1" name="Picture 3" descr=""/>
          <p:cNvPicPr/>
          <p:nvPr/>
        </p:nvPicPr>
        <p:blipFill>
          <a:blip r:embed="rId6"/>
          <a:stretch/>
        </p:blipFill>
        <p:spPr>
          <a:xfrm>
            <a:off x="7596360" y="181080"/>
            <a:ext cx="10238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6:09:27Z</dcterms:created>
  <dc:creator>Admin</dc:creator>
  <dc:description/>
  <dc:language>en-US</dc:language>
  <cp:lastModifiedBy>Нина</cp:lastModifiedBy>
  <dcterms:modified xsi:type="dcterms:W3CDTF">2015-06-02T08:52:40Z</dcterms:modified>
  <cp:revision>113</cp:revision>
  <dc:subject/>
  <dc:title>Посмеёмся вместе с А.П.Чеховым.</dc:title>
</cp:coreProperties>
</file>